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68DE-B56E-49C5-84C1-3C59F06F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78A9-B1FA-42E1-8621-C607FD83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37698-3164-47F9-8C2A-BE095ADC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52615-0F15-4EEE-9C25-BC58B471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83476-E595-4B75-98C1-EE215264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4C2E8-66AA-409E-AB45-61DD5366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9E664-6995-47EF-8FFF-071C2E49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5B964-1640-407B-8A51-A5F7D394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F22BE-C91F-4DE7-9C8E-90CFC8F1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455C7-6C35-4615-B87D-05FA5FCA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7835E-8863-4DDF-8DC6-59C1B357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BBEFF-BABB-4381-9366-4E58D2F4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4DE-A7AB-48F8-B4CD-2265844A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3A144-A8E0-4F18-BA8A-6DD968D7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143AE-4A47-41ED-B263-46889453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5E322-CB7B-44E0-86DA-CC941F95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C90ED-AC4C-48F6-BF30-678CC9A9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CC33B-0C3E-469E-8979-0CF39B95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3C4E6-7619-4F38-B964-6DE5E4C3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43936-BE56-4CFD-A739-6A3F944B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91D8D-A53C-48A6-93AE-5B02DA14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A7C86-F215-4677-AA96-F46AC704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3A763-92DA-47F2-98CD-B87D2C59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E6E-DD15-465B-A0E6-E238A036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2B640-FDFD-43EE-83F2-F697B97F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814D4-6AC7-47FC-8C62-05DE5122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0B40F-ADA9-4DCD-ACA3-6FCDE15B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BE8E7-563D-4610-AE9E-1038137D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A36FE-ED06-4359-ACDE-44FE4AAC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DBC9B-1E87-4BF2-89EE-988356E7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D0B87-847B-4C85-8255-3E93F148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48B73-769B-4EC4-B7CD-86B6EC88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F4486-388D-417C-AA86-1F156A92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A697B-0905-46B0-80B9-E233B9EC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F7EE-5394-4988-BF9F-36FDE5EE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04BE0-6FF9-43CB-B337-C260060C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5BA23-26F0-4EE5-AE6D-835B62B1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610BD-DE0F-4DA8-B24F-46936793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2B21A-259F-4701-AC7C-17BC59FD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46AD3-54EE-4AE8-8B93-A0B8D83F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9D998-C068-4A30-9768-2FAF57BA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5F748-E66C-436B-BCD3-C3EEF4EC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AF6E3-0729-4E85-B0D1-5CB46B07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4B9A1-3712-43C0-97A9-29012AF1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15E99-C0A7-4D71-867B-15DB7A9D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DF9D-A214-449D-ABCB-02541573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683C3-9231-4B37-8337-40595B34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652F3-F7AA-48B2-9E2C-9E83444A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DDA09-30B7-4925-B2E5-07685B36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B1F60-09E1-4BE3-B6AB-63AECD7C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A9AE1-860F-46B5-916C-52E4EE59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B225-E6BC-4508-9008-48D9BAE7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466A-B0E7-48F0-91F2-0D1B87D3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BE86-E1E9-4B8A-A6A9-93E63D55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4C30-F59A-4153-9AC9-EB3E19C0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6DDA-5EA2-4507-AF30-5F50398C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CFD-76E6-4643-8AFB-DC68D166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8763-9E9F-480D-965D-35946255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5ACB-315F-42CC-B626-696DAC97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24DD-6597-4B03-8C20-07EAABB8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C7B2-54E1-4ABE-9485-D6420750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B8EB-7520-401E-8AB1-AA794C80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8091-0C5D-4B21-8736-2D9A339C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74C14-B732-4817-A753-7E2019DC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4FA46-9427-4823-B59B-F2FEE941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DAC11-C71E-4378-BB92-5315BC81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D1C9B-46BC-482D-BE47-FE19645C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7EFA-3090-47C1-91F6-D784E82B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8B448-E0DB-49EF-8A47-7F618166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87E56-F92C-452E-96CD-281E96B2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66D56-736F-4614-BFF4-D7B06B76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90D9A-D775-4BF7-8D67-40FDC540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540E3-7C55-4B93-AF0B-817B8C38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6BFFA-7B86-4E6A-93C5-D7C9B549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224BF-EB9B-492E-862A-8D310449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19BCE-91D0-4E17-BFFC-C09A4B87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422D4-B6A6-473D-9448-12F2684E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EE90F-4C44-495B-BB84-768E6E7F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9BC-C8B7-489A-9D06-8D13C4EC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136D1-E1C2-4E68-92A5-82A84557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00095-03D2-460C-A132-B8AE6216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5641A-0883-4A2F-ADE1-54F06CAE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6AADD-08D3-4D25-8A32-16CA09DE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88E9D-E91C-4FD9-BE26-30DF324C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3187B-D799-4ECC-89F4-DB49ED4A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B0DF0-C88A-46D9-A273-583D09EA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8E6A6-DB83-4FA2-8909-CE805823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5E99D-E1F4-4819-BEC8-C4235D0F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C51CD-0281-438A-8554-EE0F97EF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79D-76C6-4C97-BC5F-75AA8874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2ACC0-6ADC-46C2-8D32-67379660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A0C6D-9983-4657-AEF4-E1DA3EB0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12D55-CD2F-4716-8FD0-2F889C9D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F9799-FC83-4A85-82EA-21076B3C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B67AA-6B85-4215-9B49-BA6DB916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242FC-BEB0-4E5A-8903-A02302E8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27F40-8620-442B-AD80-6A2F9861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3132E-CF82-4A2F-A5AC-FCA3AC96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D965E-CE74-4991-AB5F-CD6360F7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BC517-4795-4F5F-AF89-4445DE73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59B-0FFE-4BF8-BD10-6A77E403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ACC01-86F5-4B85-97B9-7DB0D1F2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F2E5D-4872-4C8C-8B5C-DAA2FE86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D8457-DF08-484E-A74F-2C12E4EC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ABABD-49A7-4DA7-9D82-A7C2D8A7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6CE87-75DC-47C3-8F29-E3326ED1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3EF6F-3B8D-4173-A808-87AA33FA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9D247-3235-494E-A70A-F59D325F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190F7-182B-4DBF-B1B8-C9EB65F5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64FAB-CE40-450A-B9FD-FAE7A5ED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D55AA-2EB0-4FFB-BDA5-CACADC16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9E9-B4A6-4BB2-A974-94BD7C07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14969-4546-46B5-BE9E-EE9AC0C8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4F985-F1A0-4425-A09A-64264708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63A61-D4F6-4214-8EC9-18DD11E6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18323-259D-410B-8BE5-A7F6C707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0A5D1-0A93-41FB-A51A-EAD2D0FE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0D23D-F074-4A1A-979E-891034CF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75226-DAB5-4D11-9280-8A6FD24D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416B6-0E54-4170-8912-C9DE15BE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600FF-5BC7-4D8D-95D8-E877F9BB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6DA86-1F99-447A-B960-09488253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446-63F1-44A1-BF98-4694D056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AB2E6-7672-4E14-8190-ADD53C97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B86C0-159D-40CD-8082-F2CFBFFD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58701-FDA9-4D35-B587-723187AE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CF1DF-6F8F-40B7-877F-C40F79FC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A8AD0-6401-436D-B06C-C0317B14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7B65B-557B-4C34-A151-E07AE860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4D902-77B7-4CC7-97AD-6C35D0DA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2832E-F5B3-4C1C-88F0-CC247651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8EA98-5E87-4B23-8D6D-3E2B33E2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8E8B6-7268-439B-8B03-DFE1AABC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65E-BEC5-486E-AA4E-2B896D55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E8EAF-5D6B-4BA0-BDEE-85565E0F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8F301-D5B8-4115-ACB2-4F854335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73FCE-8526-4BC3-A70E-998B4547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D6F94-83DB-443B-BFB2-ACAD59B5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2C566-5566-41C5-A244-4ADEAA59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EDAD6-7B2B-4102-9918-319146FA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5648F-3CED-40FD-B823-DB0C8D9C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84D3E-3A3F-4126-8810-BDEE9A05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D3276-E960-4123-A241-7BB491DA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14361-2250-45F2-A421-638430EA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4B41-27F0-4CD8-856F-DC4914C4A6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0A49-A534-48E2-9568-D1473A91C87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A049-293A-463A-9889-CEA9FE4015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991F-3F5F-4E32-A363-673506A782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72BF-93D5-4BAD-B6BD-3B607975E7E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A87D-1D0F-4194-B308-3303E8F2BA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4488-5128-437A-8ED1-8614CC61C3B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0383-5230-443F-94BB-05D69C8584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7982-DA82-423B-A064-0D185664595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66C7-7DA6-4C11-BAC0-ECF0EF5273C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E436-2B78-43E5-9CC3-4B403375E7A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217D-5B38-4BD8-B187-52664A5FFD4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45 Pán Ježiš je mi drah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je mi drah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všetko vzácnejš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jeho verná láska 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poklad najväčš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neho nechcem ďalej ž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blúdiť svetom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v živote mi všetk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sť môžu skúšky ťažk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nie som bezrad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proti všetkým nástrah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j zviedol víťaz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preto s ním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čať chc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jeho rady dbám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v živote mi všetk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bremä žitia ťaž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radosť veľkú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 všetkým sa mu zveruj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naň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svoj čas, dary, schop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lužieb jemu dám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je v živote mi všetk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milovať ma učí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om príklad svoj nám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y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u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n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šnem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neba slávy vz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k sebe volá hriešnikov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 všetkých sveta strán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je v živote mi všetký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drahý Pán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3-26T18:49:44Z</dcterms:modified>
  <cp:revision>23</cp:revision>
  <dc:subject/>
  <dc:title>Je veľký náš Pán, on slávy je Kráľ Nech do všetkých strán  spev vrúcnych znie chvál.</dc:title>
</cp:coreProperties>
</file>